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ct" ContentType="image/x-pict"/>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019FA-3698-48D6-A00F-8D3E823A3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529B2-C46B-4B04-AC73-E10E4AC56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C210E-FD30-4E7F-8941-E445FCD59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C8B8C-D084-4D50-BE67-FF84C6737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7FE592-D543-4111-9886-B8A4371CB7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D704C-B3B8-48B2-A3D2-2F43F61BE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7D085-93EC-46F6-97A7-51EED7B97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20E07-1644-4EAB-838F-7A5A4A806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0F37F-F60B-45DA-990F-604CAE741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C9683-87FF-4887-9405-4110183D1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D3A1C-1266-4BCC-B39D-89555C873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24BFF-DC77-4D79-BDED-49F6064BC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C6594-937B-49FC-91F4-92D265958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E599E-B484-4FB2-AD2C-BDE80F120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E0B26-9DDB-44C5-9ADD-8A0B2C3EB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8C00EA-594A-48FB-8D43-3B0C570CF8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F46B41-6230-44E5-A37B-F1437D0576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7A4E8-A122-43EB-9413-135FBB764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55E8B-9A07-4FDF-B7B4-7BF5E8974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D27F7-48FF-4C69-9D5F-C7C3F1F84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8854B-FBAF-4C93-8552-120FD788E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6D377-963B-4169-A28A-BDDF440AC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76287-CA57-4BE8-A52B-088E464DD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25DDD-779F-488A-A156-80B343AF0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A426A-AEC9-4EEB-BADE-93065AC47D11}"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D6A81-7A33-4456-8244-B07D920CD0B9}"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50states.com/tools/usamap.htm" TargetMode="External"/><Relationship Id="rId3" Type="http://schemas.openxmlformats.org/officeDocument/2006/relationships/hyperlink" Target="http://rubistar.4teachers.org/index.php"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ationalgeographic.com/railroad/map.html" TargetMode="External"/><Relationship Id="rId3" Type="http://schemas.openxmlformats.org/officeDocument/2006/relationships/hyperlink" Target="http://safepassageohio.org/safepassage/symbols.asp" TargetMode="External"/><Relationship Id="rId4" Type="http://schemas.openxmlformats.org/officeDocument/2006/relationships/hyperlink" Target="http://education.ucdavis.edu/NEW/STC/lesson/socstud/railroad/images/map16.gif" TargetMode="External"/><Relationship Id="rId5" Type="http://schemas.openxmlformats.org/officeDocument/2006/relationships/hyperlink" Target="http://www.cr.nps.gov/nr/travel/underground/routes.htm" TargetMode="External"/><Relationship Id="rId6" Type="http://schemas.openxmlformats.org/officeDocument/2006/relationships/hyperlink" Target="http://www.symsys.com/~ingram/mileage/index.php" TargetMode="External"/><Relationship Id="rId7" Type="http://schemas.openxmlformats.org/officeDocument/2006/relationships/hyperlink" Target="http://www.cr.nps.gov/NR/travel/underground/states.htm" TargetMode="External"/><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bistar.4teachers.org/index.php"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ationalgeographic.com/railroad/hfame.html" TargetMode="External"/><Relationship Id="rId3" Type="http://schemas.openxmlformats.org/officeDocument/2006/relationships/hyperlink" Target="http://www.indianahistory.org/pop_hist/people/coffin.html" TargetMode="External"/><Relationship Id="rId4" Type="http://schemas.openxmlformats.org/officeDocument/2006/relationships/hyperlink" Target="http://www.freedomcenter.org/learn/underground-railroad/people/index.html" TargetMode="Externa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bistar.4teachers.org/index.php"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home.columbus.rr.com/bradshaw/UNDERRR/quilt/underground_railroad_quilt.htm" TargetMode="External"/><Relationship Id="rId3" Type="http://schemas.openxmlformats.org/officeDocument/2006/relationships/hyperlink" Target="http://www.womenfolk.com/quilting_history/abolitionist.htm" TargetMode="External"/><Relationship Id="rId4" Type="http://schemas.openxmlformats.org/officeDocument/2006/relationships/hyperlink" Target="http://safepassageohio.org/safepassage/symbols.asp" TargetMode="External"/><Relationship Id="rId5" Type="http://schemas.openxmlformats.org/officeDocument/2006/relationships/hyperlink" Target="http://pathways.thinkport.org/secrets/gourd1.cfm" TargetMode="External"/><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bistar.4teachers.org/index.php?screen=Home&amp;module=User&amp;"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hispersofangels.com/routes.html" TargetMode="External"/><Relationship Id="rId3" Type="http://schemas.openxmlformats.org/officeDocument/2006/relationships/hyperlink" Target="http://www.whispersofangels.com/secrets.html" TargetMode="External"/><Relationship Id="rId4" Type="http://schemas.openxmlformats.org/officeDocument/2006/relationships/hyperlink" Target="http://www.whispersofangels.com/secrets.html" TargetMode="External"/><Relationship Id="rId5" Type="http://schemas.openxmlformats.org/officeDocument/2006/relationships/hyperlink" Target="http://safepassageohio.org/safepassage/symbols.asp" TargetMode="External"/><Relationship Id="rId6" Type="http://schemas.openxmlformats.org/officeDocument/2006/relationships/hyperlink" Target="http://safepassageohio.org/safepassage/symbols.asp" TargetMode="External"/><Relationship Id="rId7" Type="http://schemas.openxmlformats.org/officeDocument/2006/relationships/hyperlink" Target="http://www2.lhric.org/pocantico/tubman/gourd.htm" TargetMode="External"/><Relationship Id="rId8" Type="http://schemas.openxmlformats.org/officeDocument/2006/relationships/hyperlink" Target="http://www.historychannel.com/blackhistory/?page=exhibits2" TargetMode="External"/><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agma.nationalgeographic.com/ngm/0309/feature1/map.html" TargetMode="External"/><Relationship Id="rId3" Type="http://schemas.openxmlformats.org/officeDocument/2006/relationships/hyperlink" Target="http://magma.nationalgeographic.com/ngm/0309/feature1/online_extra.html" TargetMode="Externa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mericangirl.com/agcn/addy/escape/index.html" TargetMode="External"/><Relationship Id="rId3" Type="http://schemas.openxmlformats.org/officeDocument/2006/relationships/hyperlink" Target="http://www.americangirl.com/agcn/addy/escape/index.html" TargetMode="External"/><Relationship Id="rId4" Type="http://schemas.openxmlformats.org/officeDocument/2006/relationships/hyperlink" Target="http://www.nationalgeographic.com/railroad/j1.html" TargetMode="External"/><Relationship Id="rId5" Type="http://schemas.openxmlformats.org/officeDocument/2006/relationships/hyperlink" Target="http://www.pbs.org/wgbh/aia/part4/4p2944.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pct"/><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45684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REEDOM QUILT WEBQUEST</a:t>
            </a:r>
            <a:endParaRPr b="1" lang="en-US" sz="4400" spc="-1" strike="noStrike">
              <a:solidFill>
                <a:srgbClr val="000000"/>
              </a:solidFill>
              <a:latin typeface="Times New Roman"/>
            </a:endParaRPr>
          </a:p>
        </p:txBody>
      </p:sp>
      <p:sp>
        <p:nvSpPr>
          <p:cNvPr id="83" name="PlaceHolder 2"/>
          <p:cNvSpPr>
            <a:spLocks noGrp="1"/>
          </p:cNvSpPr>
          <p:nvPr>
            <p:ph type="subTitle"/>
          </p:nvPr>
        </p:nvSpPr>
        <p:spPr>
          <a:xfrm>
            <a:off x="1523880" y="4800600"/>
            <a:ext cx="6400800" cy="175248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na Bantel, Elaine Rehm, Andrea Roberts and Tina Weinraub</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2590920" y="1828800"/>
            <a:ext cx="4257720" cy="294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0"/>
            <a:ext cx="7772400" cy="12952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eographer</a:t>
            </a:r>
            <a:endParaRPr b="1" lang="en-US" sz="4400" spc="-1" strike="noStrike">
              <a:solidFill>
                <a:srgbClr val="000000"/>
              </a:solidFill>
              <a:latin typeface="Times New Roman"/>
            </a:endParaRPr>
          </a:p>
        </p:txBody>
      </p:sp>
      <p:sp>
        <p:nvSpPr>
          <p:cNvPr id="102" name="PlaceHolder 2"/>
          <p:cNvSpPr>
            <a:spLocks noGrp="1"/>
          </p:cNvSpPr>
          <p:nvPr>
            <p:ph/>
          </p:nvPr>
        </p:nvSpPr>
        <p:spPr>
          <a:xfrm>
            <a:off x="685800" y="1143000"/>
            <a:ext cx="7772400" cy="495288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Plans the route, keeping in mind the terrain, weather, and distance. Assemble this information in bullet form on the data collection chart, then draw the route on a United States map, showing through which states the family will travel.  You will need to print a copy of the U. S. map by clicking on the following link. Label the states involved in your rout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u="sng">
                <a:solidFill>
                  <a:srgbClr val="761d00"/>
                </a:solidFill>
                <a:uFillTx/>
                <a:latin typeface="Comic Sans MS"/>
                <a:hlinkClick r:id="rId2"/>
              </a:rPr>
              <a:t>50 Stat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e this chart to record your information.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u="sng">
                <a:solidFill>
                  <a:srgbClr val="761d00"/>
                </a:solidFill>
                <a:uFillTx/>
                <a:latin typeface="Comic Sans MS"/>
                <a:hlinkClick r:id="rId3"/>
              </a:rPr>
              <a:t>Geographer's Data Chart</a:t>
            </a:r>
            <a:r>
              <a:rPr b="0" lang="en-US" sz="2400" spc="-1" strike="noStrike">
                <a:solidFill>
                  <a:srgbClr val="000000"/>
                </a:solidFill>
                <a:latin typeface="Comic Sans MS"/>
              </a:rPr>
              <a:t>  #142149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ographer’s Research Websites</a:t>
            </a:r>
            <a:endParaRPr b="1"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2"/>
              </a:rPr>
              <a:t>Routes to Freedo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3"/>
              </a:rPr>
              <a:t>Safe Passage Symbols of Freedo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4"/>
              </a:rPr>
              <a:t>Map of U. S. with URR Rout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5"/>
              </a:rPr>
              <a:t>Aboard the Underground Railroad: Map of Rout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6"/>
              </a:rPr>
              <a:t>Mileage Calculator</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7"/>
              </a:rPr>
              <a:t>Aboard the Underground Railro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ographer</a:t>
            </a:r>
            <a:endParaRPr b="1"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search  “conductors”, “agents” or other people along the way who can help.  You will need to find out the role they played in the Underground Railroad movement, where they can be located, and how they can help your family in the escape. Use the data collection chart to record your notes in bullet form.</a:t>
            </a:r>
            <a:endParaRPr b="0" lang="en-US" sz="2000" spc="-1" strike="noStrike">
              <a:solidFill>
                <a:srgbClr val="000000"/>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Comic Sans MS"/>
                <a:hlinkClick r:id="rId2"/>
              </a:rPr>
              <a:t>Biographer's Data Collection Chart</a:t>
            </a:r>
            <a:r>
              <a:rPr b="0" lang="en-US" sz="2000" spc="-1" strike="noStrike">
                <a:solidFill>
                  <a:srgbClr val="000000"/>
                </a:solidFill>
                <a:latin typeface="Comic Sans MS"/>
              </a:rPr>
              <a:t> #1421509</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iographer’s Research Websites</a:t>
            </a:r>
            <a:endParaRPr b="1" lang="en-US" sz="40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2"/>
              </a:rPr>
              <a:t>Faces of Freedo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spers of Angel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3"/>
              </a:rPr>
              <a:t>Levi Coffin: President of the Underground Railroad</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4"/>
              </a:rPr>
              <a:t>National Underground Railroad Freedom Center: Peo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ymbologist</a:t>
            </a:r>
            <a:r>
              <a:rPr b="1" lang="en-US" sz="4400" spc="-1" strike="noStrike">
                <a:solidFill>
                  <a:srgbClr val="000000"/>
                </a:solidFill>
                <a:latin typeface="Comic Sans MS"/>
              </a:rPr>
              <a:t> </a:t>
            </a:r>
            <a:endParaRPr b="1"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search symbols to be included on the quilt that will keep the family on the right track to freedom. On a data collection chart, tell what the symbols were, what they stood for and how they were used.</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Comic Sans MS"/>
                <a:hlinkClick r:id="rId2"/>
              </a:rPr>
              <a:t>Symbologist's Data Collection Chart</a:t>
            </a:r>
            <a:r>
              <a:rPr b="0" lang="en-US" sz="2000" spc="-1" strike="noStrike">
                <a:solidFill>
                  <a:srgbClr val="000000"/>
                </a:solidFill>
                <a:latin typeface="Comic Sans MS"/>
              </a:rPr>
              <a:t> #1421504</a:t>
            </a: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Times New Roman"/>
              </a:rPr>
              <a:t>Symbologist’s Research Websites</a:t>
            </a:r>
            <a:endParaRPr b="1" lang="en-US" sz="39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d Quilts Hold Codes to the Underground Railroa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nguage of Quilt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2"/>
              </a:rPr>
              <a:t>Underground Railroad Quilts—Secret Cod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3"/>
              </a:rPr>
              <a:t>Underground Railroad Quilts and Abolitionist Fair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4"/>
              </a:rPr>
              <a:t>Symbols of Slavery</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5"/>
              </a:rPr>
              <a:t>Follow the Drinking Gour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out</a:t>
            </a:r>
            <a:endParaRPr b="1"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Scout alerts the passengers to possible dangers along the route. On a data collection chart, list the possible dangers, why they are dangers, and how you could avoid them.</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61d00"/>
                </a:solidFill>
                <a:uFillTx/>
                <a:latin typeface="Times New Roman"/>
                <a:hlinkClick r:id="rId2"/>
              </a:rPr>
              <a:t>Scout's Data Collection Chart</a:t>
            </a:r>
            <a:r>
              <a:rPr b="0" lang="en-US" sz="2400" spc="-1" strike="noStrike">
                <a:solidFill>
                  <a:srgbClr val="000000"/>
                </a:solidFill>
                <a:latin typeface="Times New Roman"/>
              </a:rPr>
              <a:t> #1421493</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out’s Research Websites</a:t>
            </a:r>
            <a:endParaRPr b="1"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Times New Roman"/>
                <a:hlinkClick r:id="rId2"/>
              </a:rPr>
              <a:t> Whispers of Angels</a:t>
            </a:r>
            <a:endParaRPr b="0" lang="en-US" sz="28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croll to treacherous terrain and lifesaving waterways)</a:t>
            </a:r>
            <a:endParaRPr b="0" lang="en-US" sz="20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3"/>
              </a:rPr>
              <a:t> </a:t>
            </a:r>
            <a:r>
              <a:rPr b="0" lang="en-US" sz="2800" spc="-1" strike="noStrike" u="sng">
                <a:solidFill>
                  <a:srgbClr val="761d00"/>
                </a:solidFill>
                <a:uFillTx/>
                <a:latin typeface="Comic Sans MS"/>
                <a:hlinkClick r:id="rId4"/>
              </a:rPr>
              <a:t>Secrets and Lie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5"/>
              </a:rPr>
              <a:t> </a:t>
            </a:r>
            <a:r>
              <a:rPr b="0" lang="en-US" sz="2800" spc="-1" strike="noStrike" u="sng">
                <a:solidFill>
                  <a:srgbClr val="761d00"/>
                </a:solidFill>
                <a:uFillTx/>
                <a:latin typeface="Comic Sans MS"/>
                <a:hlinkClick r:id="rId6"/>
              </a:rPr>
              <a:t>Symbols of Slavery</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7"/>
              </a:rPr>
              <a:t> </a:t>
            </a:r>
            <a:r>
              <a:rPr b="1" lang="en-US" sz="2800" spc="-1" strike="noStrike">
                <a:solidFill>
                  <a:srgbClr val="000000"/>
                </a:solidFill>
                <a:latin typeface="Comic Sans MS"/>
              </a:rPr>
              <a:t>Follow the Drinking Gourd</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8"/>
              </a:rPr>
              <a:t> </a:t>
            </a:r>
            <a:r>
              <a:rPr b="1" lang="en-US" sz="2800" spc="-1" strike="noStrike">
                <a:solidFill>
                  <a:srgbClr val="000000"/>
                </a:solidFill>
                <a:latin typeface="Comic Sans MS"/>
              </a:rPr>
              <a:t>The History Channel—Black History Mon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6858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Quilt</a:t>
            </a:r>
            <a:endParaRPr b="1" lang="en-US" sz="4400" spc="-1" strike="noStrike">
              <a:solidFill>
                <a:srgbClr val="000000"/>
              </a:solidFill>
              <a:latin typeface="Times New Roman"/>
            </a:endParaRPr>
          </a:p>
        </p:txBody>
      </p:sp>
      <p:sp>
        <p:nvSpPr>
          <p:cNvPr id="118" name="PlaceHolder 2"/>
          <p:cNvSpPr>
            <a:spLocks noGrp="1"/>
          </p:cNvSpPr>
          <p:nvPr>
            <p:ph/>
          </p:nvPr>
        </p:nvSpPr>
        <p:spPr>
          <a:xfrm>
            <a:off x="685800" y="1447560"/>
            <a:ext cx="7772400" cy="464796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Meet as a group. Share the information you have found and as a group construct an escape plan including agents to help you, symbols, map with route, and dangers to be avoided. Decide which symbols, if placed on your quilt, would have the best chance of helping your family to safe passage to freedom. Each person in your group will draw and color their square of the quilt on an 18 x 24 “ piece of construction paper. Tape the four sections together and make a border around your quilt.</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resentation</a:t>
            </a:r>
            <a:endParaRPr b="1"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esent your quilt and its meaning to the class as an oral report. Use the information on your data collection chart to prepare your script. Each member of the group will speak about the square they researched and drew and how it fits into the escape plan.</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troduction</a:t>
            </a:r>
            <a:endParaRPr b="1"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 the years before the Civil War, slavery for Black Americans was accepted as normal. There were many people, both black and white, who knew how wrong slavery really was. Although many enslaved people tried to escape from slavery and were successful, most chose not to run away. They stayed and suffered in silence.  Not you!</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valuation</a:t>
            </a:r>
            <a:br>
              <a:rPr sz="4400"/>
            </a:br>
            <a:endParaRPr b="1" lang="en-US" sz="4400" spc="-1" strike="noStrike">
              <a:solidFill>
                <a:srgbClr val="000000"/>
              </a:solidFill>
              <a:latin typeface="Times New Roman"/>
            </a:endParaRPr>
          </a:p>
        </p:txBody>
      </p:sp>
      <p:sp>
        <p:nvSpPr>
          <p:cNvPr id="122" name="PlaceHolder 2"/>
          <p:cNvSpPr>
            <a:spLocks noGrp="1"/>
          </p:cNvSpPr>
          <p:nvPr>
            <p:ph/>
          </p:nvPr>
        </p:nvSpPr>
        <p:spPr>
          <a:xfrm>
            <a:off x="533520" y="5715000"/>
            <a:ext cx="7772400" cy="914400"/>
          </a:xfrm>
          <a:prstGeom prst="rect">
            <a:avLst/>
          </a:prstGeom>
          <a:noFill/>
          <a:ln w="0">
            <a:noFill/>
          </a:ln>
          <a:effectLst>
            <a:outerShdw dist="12727" dir="2700000" blurRad="0" rotWithShape="0">
              <a:srgbClr val="ffffff"/>
            </a:outerShdw>
          </a:effectLst>
        </p:spPr>
        <p:txBody>
          <a:bodyPr lIns="90000" rIns="90000" tIns="46800" bIns="46800" anchor="ctr">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this rubric to see how you will be graded.</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aluation Rubric  #1423456</a:t>
            </a:r>
            <a:endParaRPr b="0" lang="en-US" sz="2000" spc="-1" strike="noStrike">
              <a:solidFill>
                <a:srgbClr val="000000"/>
              </a:solidFill>
              <a:latin typeface="Times New Roman"/>
            </a:endParaRPr>
          </a:p>
        </p:txBody>
      </p:sp>
      <p:pic>
        <p:nvPicPr>
          <p:cNvPr id="123" name="" descr=""/>
          <p:cNvPicPr/>
          <p:nvPr/>
        </p:nvPicPr>
        <p:blipFill>
          <a:blip r:embed="rId2"/>
          <a:stretch/>
        </p:blipFill>
        <p:spPr>
          <a:xfrm>
            <a:off x="3276720" y="1219320"/>
            <a:ext cx="2797200" cy="430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5238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nclusion</a:t>
            </a:r>
            <a:endParaRPr b="1" lang="en-US" sz="4400" spc="-1" strike="noStrike">
              <a:solidFill>
                <a:srgbClr val="000000"/>
              </a:solidFill>
              <a:latin typeface="Times New Roman"/>
            </a:endParaRPr>
          </a:p>
        </p:txBody>
      </p:sp>
      <p:sp>
        <p:nvSpPr>
          <p:cNvPr id="125" name="PlaceHolder 2"/>
          <p:cNvSpPr>
            <a:spLocks noGrp="1"/>
          </p:cNvSpPr>
          <p:nvPr>
            <p:ph/>
          </p:nvPr>
        </p:nvSpPr>
        <p:spPr>
          <a:xfrm>
            <a:off x="685800" y="1219320"/>
            <a:ext cx="7772400" cy="487656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Congratulations! Your mission was successful. You were able to help your family escape from slavery.  They are now safe and able to enjoy freedo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hile you were planning a journey and depicting that journey on a quilt, you were also developing and strengthening skills: locating information, comprehending data, and selecting appropriate details in order to complete your task. You learned the value of teamwork and the benefits of listening and sharing with your classmates and the satisfaction of accomplishment</a:t>
            </a:r>
            <a:r>
              <a:rPr b="0" lang="en-US" sz="2800" spc="-1" strike="noStrike">
                <a:solidFill>
                  <a:srgbClr val="000000"/>
                </a:solidFill>
                <a:latin typeface="Comic Sans MS"/>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lavery </a:t>
            </a:r>
            <a:endParaRPr b="1" lang="en-US" sz="4400" spc="-1" strike="noStrike">
              <a:solidFill>
                <a:srgbClr val="000000"/>
              </a:solidFill>
              <a:latin typeface="Times New Roman"/>
            </a:endParaRPr>
          </a:p>
        </p:txBody>
      </p:sp>
      <p:sp>
        <p:nvSpPr>
          <p:cNvPr id="127" name="PlaceHolder 2"/>
          <p:cNvSpPr>
            <a:spLocks noGrp="1"/>
          </p:cNvSpPr>
          <p:nvPr>
            <p:ph/>
          </p:nvPr>
        </p:nvSpPr>
        <p:spPr>
          <a:xfrm>
            <a:off x="685800" y="1066680"/>
            <a:ext cx="7772400" cy="50292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lavery is a horrible condition and helping people to get out of slavery not only makes their life better, but also improves our world by eliminating a terrible injustice. Slavery still exists today.  If you would like to find out more about slavery in the 21</a:t>
            </a:r>
            <a:r>
              <a:rPr b="0" lang="en-US" sz="2800" spc="-1" strike="noStrike" baseline="30000">
                <a:solidFill>
                  <a:srgbClr val="000000"/>
                </a:solidFill>
                <a:latin typeface="Comic Sans MS"/>
              </a:rPr>
              <a:t>st</a:t>
            </a:r>
            <a:r>
              <a:rPr b="0" lang="en-US" sz="2800" spc="-1" strike="noStrike">
                <a:solidFill>
                  <a:srgbClr val="000000"/>
                </a:solidFill>
                <a:latin typeface="Comic Sans MS"/>
              </a:rPr>
              <a:t>. century and what you can do about it, look at the following websit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2"/>
              </a:rPr>
              <a:t>21st Century Slaves Ma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3"/>
              </a:rPr>
              <a:t>Online Extra  - How We Can End Slave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achers Page</a:t>
            </a:r>
            <a:endParaRPr b="1"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Students pretend they are an escaping slave who wants to find the best route to freedom. They take the roles of biographer, geographer, symbologist and scout and work together to compile facts and create a quilt with symbols that will direct them to freed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ence: Grades 3-6</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 Standards Addressed :</a:t>
            </a: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 Historical Analysis and Skills Developmen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3B, 8.1.3D  8.1.6A, 8.1.6B,8.1.6C, 8.1.6D</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3 United States History</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3.3A, 8.3.3B, 8.3.3C, 8.3.3D, 8.3.6A, 8.3.6B, 8.3.6C, 8.3.6D</a:t>
            </a:r>
            <a:endParaRPr b="0" lang="en-US" sz="1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89000"/>
            <a:ext cx="7543800" cy="7642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 name="PlaceHolder 2"/>
          <p:cNvSpPr>
            <a:spLocks noGrp="1"/>
          </p:cNvSpPr>
          <p:nvPr>
            <p:ph/>
          </p:nvPr>
        </p:nvSpPr>
        <p:spPr>
          <a:xfrm>
            <a:off x="685800" y="685800"/>
            <a:ext cx="7772400" cy="541008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You are sixteen years old. The year is 1856. You are one of the lucky ones. You have managed to escape to freedom in Philadelphia, Pennsylvania via the Underground Railroad. Unfortunately, you had to leave your mother, father, and two little brothers behind in Georgia. You desperately want them to join you in Philadelph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sk</a:t>
            </a:r>
            <a:br>
              <a:rPr sz="4400"/>
            </a:br>
            <a:endParaRPr b="1" lang="en-US" sz="4400" spc="-1" strike="noStrike">
              <a:solidFill>
                <a:srgbClr val="000000"/>
              </a:solidFill>
              <a:latin typeface="Times New Roman"/>
            </a:endParaRPr>
          </a:p>
        </p:txBody>
      </p:sp>
      <p:sp>
        <p:nvSpPr>
          <p:cNvPr id="90" name="PlaceHolder 2"/>
          <p:cNvSpPr>
            <a:spLocks noGrp="1"/>
          </p:cNvSpPr>
          <p:nvPr>
            <p:ph/>
          </p:nvPr>
        </p:nvSpPr>
        <p:spPr>
          <a:xfrm>
            <a:off x="685800" y="1294920"/>
            <a:ext cx="7772400" cy="48006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r task is to design a plan for their escape and travel to Philadelphia. The plan will be disguised in a quilt sent to your mother as a birthday gift.  Shown in the squares of the quilt will be their escape route and the identity of individuals to assist them with their trip.  You will need to decide what symbols you can put onto the quilt to either guide them along or help them avoid the many dangers on the way.  Your goal is that your family will be able to follow your plan and join you in Philadelph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rocess</a:t>
            </a:r>
            <a:endParaRPr b="1"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3" name="" descr=""/>
          <p:cNvPicPr/>
          <p:nvPr/>
        </p:nvPicPr>
        <p:blipFill>
          <a:blip r:embed="rId2"/>
          <a:stretch/>
        </p:blipFill>
        <p:spPr>
          <a:xfrm>
            <a:off x="2743200" y="2057400"/>
            <a:ext cx="4164120" cy="354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ackground</a:t>
            </a:r>
            <a:endParaRPr b="1" lang="en-US" sz="4400" spc="-1" strike="noStrike">
              <a:solidFill>
                <a:srgbClr val="000000"/>
              </a:solidFill>
              <a:latin typeface="Times New Roman"/>
            </a:endParaRPr>
          </a:p>
        </p:txBody>
      </p:sp>
      <p:sp>
        <p:nvSpPr>
          <p:cNvPr id="95" name="PlaceHolder 2"/>
          <p:cNvSpPr>
            <a:spLocks noGrp="1"/>
          </p:cNvSpPr>
          <p:nvPr>
            <p:ph/>
          </p:nvPr>
        </p:nvSpPr>
        <p:spPr>
          <a:xfrm>
            <a:off x="685800" y="1523880"/>
            <a:ext cx="7772400" cy="45720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 be able to design a quilt, your first step is to become familiar with the Underground Railroad and its connection to quilting. We will begin by reading and discussing the story</a:t>
            </a:r>
            <a:r>
              <a:rPr b="0" i="1" lang="en-US" sz="2000" spc="-1" strike="noStrike">
                <a:solidFill>
                  <a:srgbClr val="000000"/>
                </a:solidFill>
                <a:latin typeface="Comic Sans MS"/>
              </a:rPr>
              <a:t>, Sweet Clara and the Freedom Quil</a:t>
            </a:r>
            <a:r>
              <a:rPr b="0" lang="en-US" sz="2000" spc="-1" strike="noStrike">
                <a:solidFill>
                  <a:srgbClr val="000000"/>
                </a:solidFill>
                <a:latin typeface="Comic Sans MS"/>
              </a:rPr>
              <a:t>t, as a class.</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 help you understand the experiences of runaways, explore these websites and think about these questions. Why did the Underground Railroad develop?  What were the major accomplishments of the Underground Railroa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762120" y="533160"/>
            <a:ext cx="7772400" cy="556236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Websites</a:t>
            </a:r>
            <a:endParaRPr b="0" lang="en-US" sz="44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761d00"/>
                </a:solidFill>
                <a:uFillTx/>
                <a:latin typeface="Comic Sans MS"/>
                <a:hlinkClick r:id="rId2"/>
              </a:rPr>
              <a:t>Addy’s </a:t>
            </a:r>
            <a:r>
              <a:rPr b="0" lang="en-US" sz="2400" spc="-1" strike="noStrike" u="sng">
                <a:solidFill>
                  <a:srgbClr val="761d00"/>
                </a:solidFill>
                <a:uFillTx/>
                <a:latin typeface="Comic Sans MS"/>
                <a:hlinkClick r:id="rId3"/>
              </a:rPr>
              <a:t>Escape to Freedom</a:t>
            </a:r>
            <a:endParaRPr b="0" lang="en-US" sz="24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omic Sans MS"/>
              </a:rPr>
              <a:t>	</a:t>
            </a:r>
            <a:r>
              <a:rPr b="0" lang="en-US" sz="2400" spc="-1" strike="noStrike" u="sng">
                <a:solidFill>
                  <a:srgbClr val="0000ff"/>
                </a:solidFill>
                <a:uFillTx/>
                <a:latin typeface="Comic Sans MS"/>
              </a:rPr>
              <a:t>	</a:t>
            </a:r>
            <a:r>
              <a:rPr b="0" lang="en-US" sz="2400" spc="-1" strike="noStrike" u="sng">
                <a:solidFill>
                  <a:srgbClr val="761d00"/>
                </a:solidFill>
                <a:uFillTx/>
                <a:latin typeface="Comic Sans MS"/>
                <a:hlinkClick r:id="rId4"/>
              </a:rPr>
              <a:t>"The Underground Railroad" - National 	Geographic</a:t>
            </a:r>
            <a:endParaRPr b="0" lang="en-US" sz="24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omic Sans MS"/>
              </a:rPr>
              <a:t>	</a:t>
            </a:r>
            <a:r>
              <a:rPr b="0" lang="en-US" sz="2400" spc="-1" strike="noStrike" u="sng">
                <a:solidFill>
                  <a:srgbClr val="0000ff"/>
                </a:solidFill>
                <a:uFillTx/>
                <a:latin typeface="Comic Sans MS"/>
              </a:rPr>
              <a:t>	</a:t>
            </a:r>
            <a:r>
              <a:rPr b="0" lang="en-US" sz="2400" spc="-1" strike="noStrike" u="sng">
                <a:solidFill>
                  <a:srgbClr val="761d00"/>
                </a:solidFill>
                <a:uFillTx/>
                <a:latin typeface="Comic Sans MS"/>
                <a:hlinkClick r:id="rId5"/>
              </a:rPr>
              <a:t>The Underground Railroad</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685800" y="533520"/>
          <a:ext cx="7772400" cy="4433760"/>
        </p:xfrm>
        <a:graphic>
          <a:graphicData uri="http://schemas.openxmlformats.org/presentationml/2006/ole">
            <p:oleObj progId="Word.Document.12" r:id="rId2" spid="">
              <p:embed/>
              <p:pic>
                <p:nvPicPr>
                  <p:cNvPr id="98" name="" descr=""/>
                  <p:cNvPicPr/>
                  <p:nvPr/>
                </p:nvPicPr>
                <p:blipFill>
                  <a:blip r:embed="rId3"/>
                  <a:stretch/>
                </p:blipFill>
                <p:spPr>
                  <a:xfrm>
                    <a:off x="685800" y="533520"/>
                    <a:ext cx="7772400" cy="4433760"/>
                  </a:xfrm>
                  <a:prstGeom prst="rect">
                    <a:avLst/>
                  </a:prstGeom>
                  <a:ln w="0">
                    <a:noFill/>
                  </a:ln>
                  <a:effectLst>
                    <a:outerShdw dist="12727"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0"/>
            <a:ext cx="7772400" cy="12952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search</a:t>
            </a:r>
            <a:endParaRPr b="1" lang="en-US" sz="4400" spc="-1" strike="noStrike">
              <a:solidFill>
                <a:srgbClr val="000000"/>
              </a:solidFill>
              <a:latin typeface="Times New Roman"/>
            </a:endParaRPr>
          </a:p>
        </p:txBody>
      </p:sp>
      <p:sp>
        <p:nvSpPr>
          <p:cNvPr id="100" name="PlaceHolder 2"/>
          <p:cNvSpPr>
            <a:spLocks noGrp="1"/>
          </p:cNvSpPr>
          <p:nvPr>
            <p:ph/>
          </p:nvPr>
        </p:nvSpPr>
        <p:spPr>
          <a:xfrm>
            <a:off x="685800" y="1143000"/>
            <a:ext cx="7772400" cy="541008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You will work in groups of four to plan an escape for your family from Georgia north to freedom in Philadelphia. Each person will research a different part of the escape plan, then you will meet as a group, share what you have learned, and construct the escape. Since you will display the plan on a quilt, you will have to persuade your teammates to see the wisdom of your choice of what should be on the quilt. It will be your group’s task to show on the quilt the most appropriate route, the best “agents” to help in the escape, dangers to avoid along the way, and symbols and codes that may assist in the escape.  You will present your quilt to the class and explain the reasons for each of your cho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3T16:36:04Z</dcterms:created>
  <dc:creator>Academic Computing</dc:creator>
  <dc:description/>
  <dc:language>en-US</dc:language>
  <cp:lastModifiedBy>Wayne Snover</cp:lastModifiedBy>
  <dcterms:modified xsi:type="dcterms:W3CDTF">2007-06-10T21:03:43Z</dcterms:modified>
  <cp:revision>20</cp:revision>
  <dc:subject/>
  <dc:title>FREEDOM QUILT WEBQUEST</dc:title>
</cp:coreProperties>
</file>